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8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849-8CE6-4AAC-8232-F4A28D55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3BE-7FB4-49C6-BB74-EB0F67CA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379-D8B5-4EBC-8332-5556EE9E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EB1-A763-4A8E-B832-00E0114D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9806-9FDF-47C6-8F89-DDC3F37D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FB4C-58DB-4939-8829-E464819F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B9F7-5791-449F-87DB-E9B7F945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F1B9-F695-423B-84EF-DA193602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A563-DB79-4199-B5B7-11384698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8765-E7D1-4CE4-8FE5-FAE55333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2F23-3182-4B07-B9DC-D1FE5431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3F1-0959-48AC-87AF-BB2D7E62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418C-6397-42A4-B2F2-DA7291B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233A-38B7-437E-9216-A65FC6BD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C1BB-29DD-42B5-BDDF-B63738BC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D2D8-6091-4D04-93A7-F7D35BB4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6100-B115-4A89-8D74-2FDCD093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2D8E-841B-493B-A44A-1A1B8233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44983-AD7A-4C0B-8042-14E05087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EBD7-29CC-4D90-A9BA-F257227D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DFB0-7C38-4829-B7D4-6A727BF0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8F657-AD9A-4E6C-B66F-010AF121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F50-7382-499A-A0A4-6EE741D0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8F9B-304D-4BBE-AB76-5EF55F18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084B-4E32-4876-90B8-79AD933F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5224-BC23-4691-9DD7-E41D41FB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02FB-930B-4AFA-9B17-ADBE8EE5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6B91-8312-4267-ACBE-429B1BA8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9115-FAB5-4F60-BC51-5322EAC2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0A4DF-3865-4600-89B8-33C7C378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FB9F1-2910-4AE0-9D5D-734BF388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8F720-FBBF-428D-80D0-96336549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0CBEC-F633-45D0-99DC-060C1D9B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D5A-C55D-41BA-A409-4722D08E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14433-CA15-4D1E-9D69-6E120BE4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9E456-17C8-4680-94C3-54F2BE4A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5572-5300-4A90-AEFD-B3F5A186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90AD-F07C-4B66-865C-8C50F3C6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D922-1865-4911-B64B-22BAFAB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49D45-11E1-47F5-841F-3FEDA3F6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4A6C-CEFE-4E74-A330-4E3C305D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0D97-AC1D-426E-85A6-CDEAA8B8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0CDF-B4EB-4D8F-BD77-52D2E828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E1C4-CF8B-40DB-91DE-B2912B04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5C3-7C89-4E3B-843A-136F942D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2A740-212B-4C7A-87EE-9797A208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41ED1-6DA3-42B5-A297-F4B66AA7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C933D-BD85-4989-B972-C8161475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AEA32-AB67-4F67-B30C-90AD9B8F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C21E2-EE55-4475-B15C-DD2304D2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3B169-A9A6-45C2-9E89-399B38F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0C67F-324D-49B7-AF45-D2B5BBDA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5B445-4B0E-46FC-8215-40778D1B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7963C-35BF-4D5A-B893-E6B5BAF9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27150-8B0E-49A6-B1D3-181B929D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BE6-271F-4D13-89A0-684B0C44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61D7F-F946-4B06-89C3-2647E7F7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61A-C8BA-4EE4-9C82-642A731C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00F-C094-4CE4-B92E-580783FC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737-6048-40F8-A8AE-2732B7E8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1CD6-6197-4AC4-BFD1-A135298E086A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3631-236C-4312-85DB-89AFB4C5650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B718-28BE-49CF-A9FD-1C300046C36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F8A9-9434-4AD3-8F2E-DE97F9A2BD89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6C7B-9228-4816-9CA0-8E11B254098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8.gi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8" descr="земля1"/>
          <p:cNvPicPr/>
          <p:nvPr/>
        </p:nvPicPr>
        <p:blipFill>
          <a:blip r:embed="rId1"/>
          <a:stretch/>
        </p:blipFill>
        <p:spPr>
          <a:xfrm>
            <a:off x="971640" y="260280"/>
            <a:ext cx="6337080" cy="506412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" descr=""/>
          <p:cNvPicPr/>
          <p:nvPr/>
        </p:nvPicPr>
        <p:blipFill>
          <a:blip r:embed="rId2"/>
          <a:stretch/>
        </p:blipFill>
        <p:spPr>
          <a:xfrm>
            <a:off x="378000" y="5437080"/>
            <a:ext cx="8467560" cy="1238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мульт дети за руки"/>
          <p:cNvPicPr/>
          <p:nvPr/>
        </p:nvPicPr>
        <p:blipFill>
          <a:blip r:embed="rId3"/>
          <a:stretch/>
        </p:blipFill>
        <p:spPr>
          <a:xfrm>
            <a:off x="2124000" y="18900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мульт дети за руки"/>
          <p:cNvPicPr/>
          <p:nvPr/>
        </p:nvPicPr>
        <p:blipFill>
          <a:blip r:embed="rId4"/>
          <a:stretch/>
        </p:blipFill>
        <p:spPr>
          <a:xfrm>
            <a:off x="1214280" y="328608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мульт дети за руки"/>
          <p:cNvPicPr/>
          <p:nvPr/>
        </p:nvPicPr>
        <p:blipFill>
          <a:blip r:embed="rId5"/>
          <a:stretch/>
        </p:blipFill>
        <p:spPr>
          <a:xfrm>
            <a:off x="2786040" y="264312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мульт дети за руки"/>
          <p:cNvPicPr/>
          <p:nvPr/>
        </p:nvPicPr>
        <p:blipFill>
          <a:blip r:embed="rId6"/>
          <a:stretch/>
        </p:blipFill>
        <p:spPr>
          <a:xfrm>
            <a:off x="900000" y="134136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" descr="мульт звезда"/>
          <p:cNvPicPr/>
          <p:nvPr/>
        </p:nvPicPr>
        <p:blipFill>
          <a:blip r:embed="rId7"/>
          <a:stretch/>
        </p:blipFill>
        <p:spPr>
          <a:xfrm>
            <a:off x="8388360" y="476280"/>
            <a:ext cx="247680" cy="288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мульт звезда"/>
          <p:cNvPicPr/>
          <p:nvPr/>
        </p:nvPicPr>
        <p:blipFill>
          <a:blip r:embed="rId8"/>
          <a:stretch/>
        </p:blipFill>
        <p:spPr>
          <a:xfrm flipH="1" rot="10800000">
            <a:off x="6227640" y="5805360"/>
            <a:ext cx="316080" cy="370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1" descr="мульт звезда"/>
          <p:cNvPicPr/>
          <p:nvPr/>
        </p:nvPicPr>
        <p:blipFill>
          <a:blip r:embed="rId9"/>
          <a:stretch/>
        </p:blipFill>
        <p:spPr>
          <a:xfrm flipH="1" rot="10800000">
            <a:off x="8512200" y="2637000"/>
            <a:ext cx="253800" cy="296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мульт звезда"/>
          <p:cNvPicPr/>
          <p:nvPr/>
        </p:nvPicPr>
        <p:blipFill>
          <a:blip r:embed="rId10"/>
          <a:stretch/>
        </p:blipFill>
        <p:spPr>
          <a:xfrm flipH="1" rot="10800000">
            <a:off x="876600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3" descr="мульт звезда"/>
          <p:cNvPicPr/>
          <p:nvPr/>
        </p:nvPicPr>
        <p:blipFill>
          <a:blip r:embed="rId11"/>
          <a:stretch/>
        </p:blipFill>
        <p:spPr>
          <a:xfrm flipH="1" rot="10800000">
            <a:off x="8163000" y="5516280"/>
            <a:ext cx="315720" cy="369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4" descr="мульт звезда"/>
          <p:cNvPicPr/>
          <p:nvPr/>
        </p:nvPicPr>
        <p:blipFill>
          <a:blip r:embed="rId12"/>
          <a:stretch/>
        </p:blipFill>
        <p:spPr>
          <a:xfrm flipH="1" rot="10800000">
            <a:off x="663480" y="5589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5" descr="мульт звезда"/>
          <p:cNvPicPr/>
          <p:nvPr/>
        </p:nvPicPr>
        <p:blipFill>
          <a:blip r:embed="rId13"/>
          <a:stretch/>
        </p:blipFill>
        <p:spPr>
          <a:xfrm flipH="1" rot="10800000">
            <a:off x="123840" y="422064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6" descr="мульт звезда"/>
          <p:cNvPicPr/>
          <p:nvPr/>
        </p:nvPicPr>
        <p:blipFill>
          <a:blip r:embed="rId14"/>
          <a:stretch/>
        </p:blipFill>
        <p:spPr>
          <a:xfrm flipH="1" rot="10800000">
            <a:off x="733320" y="349992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7" descr="мульт звезда"/>
          <p:cNvPicPr/>
          <p:nvPr/>
        </p:nvPicPr>
        <p:blipFill>
          <a:blip r:embed="rId15"/>
          <a:stretch/>
        </p:blipFill>
        <p:spPr>
          <a:xfrm flipH="1" rot="10800000">
            <a:off x="312840" y="1628640"/>
            <a:ext cx="315720" cy="370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мульт звезда"/>
          <p:cNvPicPr/>
          <p:nvPr/>
        </p:nvPicPr>
        <p:blipFill>
          <a:blip r:embed="rId16"/>
          <a:stretch/>
        </p:blipFill>
        <p:spPr>
          <a:xfrm flipH="1" rot="10800000">
            <a:off x="75564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9" descr="мульт звезда"/>
          <p:cNvPicPr/>
          <p:nvPr/>
        </p:nvPicPr>
        <p:blipFill>
          <a:blip r:embed="rId17"/>
          <a:stretch/>
        </p:blipFill>
        <p:spPr>
          <a:xfrm flipH="1" rot="10800000">
            <a:off x="363528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1" descr="мульт звезда"/>
          <p:cNvPicPr/>
          <p:nvPr/>
        </p:nvPicPr>
        <p:blipFill>
          <a:blip r:embed="rId18"/>
          <a:stretch/>
        </p:blipFill>
        <p:spPr>
          <a:xfrm flipH="1" rot="10800000">
            <a:off x="6300720" y="18900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2" descr="мульт звезда"/>
          <p:cNvPicPr/>
          <p:nvPr/>
        </p:nvPicPr>
        <p:blipFill>
          <a:blip r:embed="rId19"/>
          <a:stretch/>
        </p:blipFill>
        <p:spPr>
          <a:xfrm flipH="1" rot="10800000">
            <a:off x="8766000" y="141300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3" descr="мульт звезда"/>
          <p:cNvPicPr/>
          <p:nvPr/>
        </p:nvPicPr>
        <p:blipFill>
          <a:blip r:embed="rId20"/>
          <a:stretch/>
        </p:blipFill>
        <p:spPr>
          <a:xfrm flipH="1" rot="10800000">
            <a:off x="2771640" y="641664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5" descr="мульт звезда"/>
          <p:cNvPicPr/>
          <p:nvPr/>
        </p:nvPicPr>
        <p:blipFill>
          <a:blip r:embed="rId21"/>
          <a:stretch/>
        </p:blipFill>
        <p:spPr>
          <a:xfrm flipH="1" rot="10800000">
            <a:off x="6732720" y="2565000"/>
            <a:ext cx="253800" cy="297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6" descr="мульт звезда"/>
          <p:cNvPicPr/>
          <p:nvPr/>
        </p:nvPicPr>
        <p:blipFill>
          <a:blip r:embed="rId22"/>
          <a:stretch/>
        </p:blipFill>
        <p:spPr>
          <a:xfrm flipH="1" rot="10800000">
            <a:off x="745164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7" descr="мульт звезда"/>
          <p:cNvPicPr/>
          <p:nvPr/>
        </p:nvPicPr>
        <p:blipFill>
          <a:blip r:embed="rId23"/>
          <a:stretch/>
        </p:blipFill>
        <p:spPr>
          <a:xfrm flipH="1" rot="10800000">
            <a:off x="5294160" y="256500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8" descr="мульт звезда"/>
          <p:cNvPicPr/>
          <p:nvPr/>
        </p:nvPicPr>
        <p:blipFill>
          <a:blip r:embed="rId24"/>
          <a:stretch/>
        </p:blipFill>
        <p:spPr>
          <a:xfrm flipH="1" rot="10800000">
            <a:off x="2916360" y="4652640"/>
            <a:ext cx="253800" cy="2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768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768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" dur="768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" dur="768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Рисунок 2" descr="http://nsc.1september.ru/2002/21/11.jpg"/>
          <p:cNvPicPr/>
          <p:nvPr/>
        </p:nvPicPr>
        <p:blipFill>
          <a:blip r:embed="rId1"/>
          <a:stretch/>
        </p:blipFill>
        <p:spPr>
          <a:xfrm>
            <a:off x="1071720" y="357120"/>
            <a:ext cx="657216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4" descr=""/>
          <p:cNvPicPr/>
          <p:nvPr/>
        </p:nvPicPr>
        <p:blipFill>
          <a:blip r:embed="rId1"/>
          <a:stretch/>
        </p:blipFill>
        <p:spPr>
          <a:xfrm>
            <a:off x="3389400" y="182520"/>
            <a:ext cx="6010200" cy="115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ф5 1"/>
          <p:cNvPicPr/>
          <p:nvPr/>
        </p:nvPicPr>
        <p:blipFill>
          <a:blip r:embed="rId2"/>
          <a:stretch/>
        </p:blipFill>
        <p:spPr>
          <a:xfrm>
            <a:off x="108000" y="115920"/>
            <a:ext cx="3844800" cy="3890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ф5 2"/>
          <p:cNvPicPr/>
          <p:nvPr/>
        </p:nvPicPr>
        <p:blipFill>
          <a:blip r:embed="rId3"/>
          <a:stretch/>
        </p:blipFill>
        <p:spPr>
          <a:xfrm>
            <a:off x="4356000" y="2637000"/>
            <a:ext cx="4651560" cy="4019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ф5 3"/>
          <p:cNvPicPr/>
          <p:nvPr/>
        </p:nvPicPr>
        <p:blipFill>
          <a:blip r:embed="rId4"/>
          <a:stretch/>
        </p:blipFill>
        <p:spPr>
          <a:xfrm>
            <a:off x="900000" y="4149720"/>
            <a:ext cx="229572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4" descr=""/>
          <p:cNvPicPr/>
          <p:nvPr/>
        </p:nvPicPr>
        <p:blipFill>
          <a:blip r:embed="rId1"/>
          <a:stretch/>
        </p:blipFill>
        <p:spPr>
          <a:xfrm>
            <a:off x="3749760" y="255600"/>
            <a:ext cx="5149800" cy="1152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Ф6"/>
          <p:cNvPicPr/>
          <p:nvPr/>
        </p:nvPicPr>
        <p:blipFill>
          <a:blip r:embed="rId2"/>
          <a:stretch/>
        </p:blipFill>
        <p:spPr>
          <a:xfrm>
            <a:off x="468360" y="189000"/>
            <a:ext cx="3097080" cy="2911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Ф62"/>
          <p:cNvPicPr/>
          <p:nvPr/>
        </p:nvPicPr>
        <p:blipFill>
          <a:blip r:embed="rId3"/>
          <a:stretch/>
        </p:blipFill>
        <p:spPr>
          <a:xfrm>
            <a:off x="4932360" y="1341360"/>
            <a:ext cx="3795840" cy="5256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Ф63"/>
          <p:cNvPicPr/>
          <p:nvPr/>
        </p:nvPicPr>
        <p:blipFill>
          <a:blip r:embed="rId4"/>
          <a:stretch/>
        </p:blipFill>
        <p:spPr>
          <a:xfrm>
            <a:off x="250920" y="3429000"/>
            <a:ext cx="4249800" cy="31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8" descr=""/>
          <p:cNvPicPr/>
          <p:nvPr/>
        </p:nvPicPr>
        <p:blipFill>
          <a:blip r:embed="rId1"/>
          <a:stretch/>
        </p:blipFill>
        <p:spPr>
          <a:xfrm>
            <a:off x="2955960" y="182520"/>
            <a:ext cx="5797440" cy="933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Ф7"/>
          <p:cNvPicPr/>
          <p:nvPr/>
        </p:nvPicPr>
        <p:blipFill>
          <a:blip r:embed="rId2"/>
          <a:stretch/>
        </p:blipFill>
        <p:spPr>
          <a:xfrm>
            <a:off x="611280" y="333360"/>
            <a:ext cx="2390760" cy="289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Ф71"/>
          <p:cNvPicPr/>
          <p:nvPr/>
        </p:nvPicPr>
        <p:blipFill>
          <a:blip r:embed="rId3"/>
          <a:stretch/>
        </p:blipFill>
        <p:spPr>
          <a:xfrm>
            <a:off x="3924360" y="1628640"/>
            <a:ext cx="5019480" cy="4440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Ф72"/>
          <p:cNvPicPr/>
          <p:nvPr/>
        </p:nvPicPr>
        <p:blipFill>
          <a:blip r:embed="rId4"/>
          <a:stretch/>
        </p:blipFill>
        <p:spPr>
          <a:xfrm>
            <a:off x="395280" y="3860640"/>
            <a:ext cx="2932200" cy="21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7621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2" descr="fd98fbad42d4.png"/>
          <p:cNvPicPr/>
          <p:nvPr/>
        </p:nvPicPr>
        <p:blipFill>
          <a:blip r:embed="rId2"/>
          <a:stretch/>
        </p:blipFill>
        <p:spPr>
          <a:xfrm>
            <a:off x="1571760" y="1143000"/>
            <a:ext cx="5256000" cy="52563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5"/>
          <p:cNvSpPr/>
          <p:nvPr/>
        </p:nvSpPr>
        <p:spPr>
          <a:xfrm>
            <a:off x="996480" y="6396120"/>
            <a:ext cx="65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йт  «Школа АБВ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kola-abv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6:38:58Z</dcterms:created>
  <dc:creator>lusya</dc:creator>
  <dc:description/>
  <dc:language>en-US</dc:language>
  <cp:lastModifiedBy>Борис</cp:lastModifiedBy>
  <dcterms:modified xsi:type="dcterms:W3CDTF">2014-03-30T05:23:18Z</dcterms:modified>
  <cp:revision>19</cp:revision>
  <dc:subject/>
  <dc:title>Мы разные по внешнему виду и по возрасту.</dc:title>
</cp:coreProperties>
</file>